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7739-CE7E-4A19-BFBB-9B932A85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151-E9EC-4384-8A8E-E490069C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2EB-9403-4016-B6D2-F2F14CDA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D32-14FC-40CF-AC7A-A7593ECC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B5F8-E082-4ED0-BE80-AD3F7898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1A4-E51B-46E1-A227-49179042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8187-81FA-4A74-8655-C657AE7D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8BC-4FE9-4FFE-8E54-03B9B062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BFF1-A517-4CB4-8E00-3EA074DD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56C-250B-4771-87E7-44A8ED6A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E079-1837-4007-91F2-CD210A8F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6AE-8D06-4AEF-A9FC-FE78AE92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0F4D-9F2E-485C-AEC7-425FB83F42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3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TWOOD                               UPHALL  STATION                           WHITEVALE  1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2" descr="Titwood 1.jpg"/>
          <p:cNvPicPr/>
          <p:nvPr/>
        </p:nvPicPr>
        <p:blipFill>
          <a:blip r:embed="rId1"/>
          <a:stretch/>
        </p:blipFill>
        <p:spPr>
          <a:xfrm>
            <a:off x="415800" y="476280"/>
            <a:ext cx="10987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3" descr="Whitevale 175th.jpg"/>
          <p:cNvPicPr/>
          <p:nvPr/>
        </p:nvPicPr>
        <p:blipFill>
          <a:blip r:embed="rId2"/>
          <a:stretch/>
        </p:blipFill>
        <p:spPr>
          <a:xfrm>
            <a:off x="3728880" y="692280"/>
            <a:ext cx="1074960" cy="1036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4" descr="Uphall Station 1.JPG"/>
          <p:cNvPicPr/>
          <p:nvPr/>
        </p:nvPicPr>
        <p:blipFill>
          <a:blip r:embed="rId3"/>
          <a:stretch/>
        </p:blipFill>
        <p:spPr>
          <a:xfrm>
            <a:off x="2000160" y="620640"/>
            <a:ext cx="107964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2-08-24T14:43:43Z</dcterms:modified>
  <cp:revision>89</cp:revision>
  <dc:subject/>
  <dc:title>Slide 1</dc:title>
</cp:coreProperties>
</file>