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0CE8-3E42-46FC-ACA1-95DF3D08C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BC56-57BD-479E-8CF7-B76B5C62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5CDE-F13B-4D1D-805E-7498A6744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8A88-B300-4F16-9348-4D1093003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36BD-37EB-4BB8-B9D6-25E43DD8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AF4A-F144-4081-9E5A-909EE833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40C2-77AD-415E-A548-880D86EF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0750-BDAA-4BA6-907C-0FFF22EC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932E-C73B-4B54-A4CA-40885804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904A-17C0-4F35-B42C-870C3AE9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7433-655B-4B50-B7FB-CA8C602F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7FA4-31A1-4392-B262-B03148C1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8856-1464-4BB5-BE97-6B4FD0D41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28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CUMBERNAULD                           CUMBERNAULD                              DUMBARTON                                          DUNDEE                                          DUNDEE                                            DY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997360"/>
            <a:ext cx="1006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ST  FIFE                                        EAST  FIFE                                   EAST  FIFE  25TH                            EAST  KILBRIDE                                 EAST  LOTHIAN                              EDINBURGH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9676800" y="2811600"/>
            <a:ext cx="759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65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ELGIN                                            ELGIN                                                   FALKIRK                                            FALKIRK                                             FALKIRK                                          FINT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324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FINTRY                                FRASERBURGH                                       GALLEON                                               GALLEON                                        GARIOCH                                     GLASG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28880" y="115920"/>
            <a:ext cx="1315800" cy="1206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513240" y="0"/>
            <a:ext cx="1116000" cy="1252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168880" y="0"/>
            <a:ext cx="1006560" cy="1325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681960" y="115920"/>
            <a:ext cx="969840" cy="1243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8121600" y="115920"/>
            <a:ext cx="1042920" cy="1179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488880" y="1628640"/>
            <a:ext cx="1243080" cy="1325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3584520" y="1700280"/>
            <a:ext cx="1116000" cy="1266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5097600" y="191628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6681960" y="1916280"/>
            <a:ext cx="1133280" cy="1096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8048520" y="1844640"/>
            <a:ext cx="120672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488880" y="3645000"/>
            <a:ext cx="1079640" cy="1060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1928880" y="3716280"/>
            <a:ext cx="1023840" cy="924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3584520" y="3573360"/>
            <a:ext cx="987480" cy="1047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5024520" y="3357720"/>
            <a:ext cx="1243080" cy="1303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6608880" y="3357720"/>
            <a:ext cx="1189080" cy="1279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>
            <a:off x="8121600" y="3573360"/>
            <a:ext cx="1096920" cy="1106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7"/>
          <a:stretch/>
        </p:blipFill>
        <p:spPr>
          <a:xfrm>
            <a:off x="560520" y="537372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8"/>
          <a:stretch/>
        </p:blipFill>
        <p:spPr>
          <a:xfrm>
            <a:off x="1928880" y="5300640"/>
            <a:ext cx="1023840" cy="1033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3513240" y="5084640"/>
            <a:ext cx="1116000" cy="1243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6681960" y="5300640"/>
            <a:ext cx="1060200" cy="1023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1"/>
          <a:stretch/>
        </p:blipFill>
        <p:spPr>
          <a:xfrm>
            <a:off x="8121600" y="5157720"/>
            <a:ext cx="1042920" cy="1179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2"/>
          <a:stretch/>
        </p:blipFill>
        <p:spPr>
          <a:xfrm>
            <a:off x="2000160" y="1628640"/>
            <a:ext cx="1243080" cy="1339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376880" y="0"/>
            <a:ext cx="16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OO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3"/>
          <a:stretch/>
        </p:blipFill>
        <p:spPr>
          <a:xfrm>
            <a:off x="560520" y="260280"/>
            <a:ext cx="1060200" cy="1047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4"/>
          <a:stretch/>
        </p:blipFill>
        <p:spPr>
          <a:xfrm>
            <a:off x="5240160" y="5084640"/>
            <a:ext cx="9813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8T15:41:59Z</dcterms:created>
  <dc:creator>John Young</dc:creator>
  <dc:description/>
  <dc:language>en-US</dc:language>
  <cp:lastModifiedBy>JY</cp:lastModifiedBy>
  <dcterms:modified xsi:type="dcterms:W3CDTF">2008-01-05T12:10:40Z</dcterms:modified>
  <cp:revision>17</cp:revision>
  <dc:subject/>
  <dc:title>No Slide Title</dc:title>
</cp:coreProperties>
</file>