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8.png" ContentType="image/png"/>
  <Override PartName="/ppt/media/image6.jpeg" ContentType="image/jpeg"/>
  <Override PartName="/ppt/media/image10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13.jpeg" ContentType="image/jpeg"/>
  <Override PartName="/ppt/media/image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12342-4645-4A69-8FDB-63A7F3115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E032B-6B23-4E69-AE28-9868D1F56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30D8F-9182-426B-80A5-DA99017D4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29797-9095-489A-93DD-F2588D9F0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18219-FBDA-42CE-9DDA-26941245A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254AB-DB98-4898-ABA7-BFC711C3C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4AEEF-12C5-45AA-A8EC-38DF3BF32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B9698-734D-446B-B8A1-F07F9342E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99E21-BAA8-4C99-9074-559D69ACE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A4F9B-F8C9-4339-95A0-4F3A178FF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17B16-333E-4F75-ACBA-A15ACA2F4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C31AF-77EF-4D42-B8BB-AF163D421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5B2CE-5174-402B-A1FA-72EB87B516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jpe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jpe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14400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PERTH                                         PORTOBELLO                               PRESTWICK  RINK                               PRESTWICK                               SHETLAND                                    STIRL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267080" y="-79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OOR 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31417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STONEHAVEN                             STONEHAVEN                   STONEHAVEN  MILLENNIUM                     TEVIOTDALE                                         THISTLE                                    TURRI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560520" y="260280"/>
            <a:ext cx="1225440" cy="11797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2073240" y="260280"/>
            <a:ext cx="1243080" cy="11937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3728880" y="404640"/>
            <a:ext cx="1060560" cy="10479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5168880" y="333360"/>
            <a:ext cx="1133640" cy="10969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5"/>
          <a:stretch/>
        </p:blipFill>
        <p:spPr>
          <a:xfrm>
            <a:off x="7977240" y="260280"/>
            <a:ext cx="1170000" cy="12160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6"/>
          <a:stretch/>
        </p:blipFill>
        <p:spPr>
          <a:xfrm>
            <a:off x="6608880" y="404640"/>
            <a:ext cx="987480" cy="10242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7"/>
          <a:stretch/>
        </p:blipFill>
        <p:spPr>
          <a:xfrm>
            <a:off x="488880" y="1700280"/>
            <a:ext cx="1481040" cy="14270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8"/>
          <a:stretch/>
        </p:blipFill>
        <p:spPr>
          <a:xfrm>
            <a:off x="3728880" y="2133720"/>
            <a:ext cx="1024200" cy="10602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9"/>
          <a:stretch/>
        </p:blipFill>
        <p:spPr>
          <a:xfrm>
            <a:off x="5097600" y="1989000"/>
            <a:ext cx="1225440" cy="11937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10"/>
          <a:stretch/>
        </p:blipFill>
        <p:spPr>
          <a:xfrm>
            <a:off x="8121600" y="2060640"/>
            <a:ext cx="1044720" cy="10573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11"/>
          <a:stretch/>
        </p:blipFill>
        <p:spPr>
          <a:xfrm>
            <a:off x="488880" y="3645000"/>
            <a:ext cx="1316160" cy="10969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12"/>
          <a:stretch/>
        </p:blipFill>
        <p:spPr>
          <a:xfrm>
            <a:off x="2000160" y="3500280"/>
            <a:ext cx="1206720" cy="12160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13"/>
          <a:stretch/>
        </p:blipFill>
        <p:spPr>
          <a:xfrm>
            <a:off x="3584520" y="3645000"/>
            <a:ext cx="1116000" cy="1084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14"/>
          <a:stretch/>
        </p:blipFill>
        <p:spPr>
          <a:xfrm>
            <a:off x="6824520" y="3645000"/>
            <a:ext cx="1133640" cy="10969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15"/>
          <a:stretch/>
        </p:blipFill>
        <p:spPr>
          <a:xfrm>
            <a:off x="8193240" y="3500280"/>
            <a:ext cx="1023840" cy="11941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16"/>
          <a:stretch/>
        </p:blipFill>
        <p:spPr>
          <a:xfrm>
            <a:off x="488880" y="5229360"/>
            <a:ext cx="1243080" cy="13906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0" y="47242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TWEEDBANK                            WEST  LOTHIAN                              WEST  LOTHIAN                            WEST  LOTHIAN  25TH                      WEST  OF  SCOTLAND         WEST  OF  SCOTLAND  25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7"/>
          <a:stretch/>
        </p:blipFill>
        <p:spPr>
          <a:xfrm>
            <a:off x="6753240" y="2133720"/>
            <a:ext cx="1042920" cy="10094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18"/>
          <a:stretch/>
        </p:blipFill>
        <p:spPr>
          <a:xfrm>
            <a:off x="5240160" y="3645000"/>
            <a:ext cx="1038240" cy="1035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0" y="65977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WHITEINCH                             SCOTTISH  INDOOR  B.C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9"/>
          <a:stretch/>
        </p:blipFill>
        <p:spPr>
          <a:xfrm>
            <a:off x="2144880" y="2133720"/>
            <a:ext cx="1056960" cy="10573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0"/>
          <a:stretch/>
        </p:blipFill>
        <p:spPr>
          <a:xfrm>
            <a:off x="2073240" y="5373720"/>
            <a:ext cx="1170000" cy="11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11T20:21:59Z</dcterms:created>
  <dc:creator>JOHN YOUNG</dc:creator>
  <dc:description/>
  <dc:language>en-US</dc:language>
  <cp:lastModifiedBy>JY</cp:lastModifiedBy>
  <dcterms:modified xsi:type="dcterms:W3CDTF">2007-02-05T19:37:21Z</dcterms:modified>
  <cp:revision>11</cp:revision>
  <dc:subject/>
  <dc:title>PowerPoint Presentation</dc:title>
</cp:coreProperties>
</file>